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96D-F452-402B-B6C3-79500459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30C-6B60-470B-AEE2-FB0A4D8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D5A-422B-492E-BC62-CB51E117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178-6D56-406F-A027-4FF68834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1DB-8853-4A31-92FC-9BD234D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7AA-5864-49A7-8166-20B1FBD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1AA-C3A6-43EF-A980-FCE14D1E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F97-2526-4618-978D-689E45C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878-A417-46F5-BC56-C73B521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637-0830-4D45-9307-A8EC612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6C5-7408-458C-9C4E-3197F23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C27-11B7-42B0-8E29-D31F8E3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D3C-8651-4576-937C-2DB5F9E0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спериментална 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 изводити експерименте за које се сматра да су без штетних утиц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морају бити информисани о циљевима експеримента и последицама, после чега дају сагласност о учешћу у студ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 бити сп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а која дефинишу регулативе у испитивањима која обухватају хуману популацију: 1964.год. Хелсиншка декла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раживач прекида истраживање када утврди да може имати последице за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тички комитети при научним установама надлежни за примену етичких принципа у истражив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ност: пружају најјаче доказе о постојању односа узрок-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достаци: ограничена изводљивост, спорна етичност, отежано генерализовање резултата, проблем одзива и осипања, захтевају велики број истраживача и велика материјална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ренс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 у друштвен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вијају се под контролом истраживача који одређује експерименталне у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интервенише  (методом, леком, вакцин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снову добијених резултата располаже одговором на питања која су у вези са испитиваним пробл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узајнирање експерименталних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ланирањ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Величина уз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Рандом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а исхода и отклањање исхода у процесу ис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 ПРОТОКОЛ који садржи: циљеве еклсперимента, критеријуме за одабир испитаника, шему рандомизације, поступке који ће се у експерименту спроводити, начину примене испитиваних средстава, методе за прикупљање и анализу података, исходи експеримента, регистровање ефеката испитивања, поступци за добијање сагласности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ланирање експерименталне студ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ти које ће карактеристике испитиване популације бити узете као критеријуми за укључивање у студ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треба да се слажу у односу на што већи број карактеристика од значаја за исход испитивања (пол, узраст, степен претходне изложености, тежина болести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еличина уз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 испитаника који је неопходан за откривање ефеката испитиваног лека или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ва се статистичким поступ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ндом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врставање испитаника у експерименталну и контролну групу методом случајн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испитаник има подједнаку шансу да буде разврстан у експерименталну и контролну гр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цена исхода у експерименталним студ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к сам уочава ефекте испитиване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региструје промене статуса испи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ПРОЦЕНА ИСХОДА Е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Индивидуална пр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едн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Дв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Тр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9:16Z</dcterms:modified>
  <cp:revision>11</cp:revision>
  <dc:subject/>
  <dc:title>Slide 1</dc:title>
</cp:coreProperties>
</file>