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DEC-986A-4EA1-ACF1-44160510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150-D601-4643-ACC7-A7560DF1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BEC-B46E-45EB-AF44-0EAA2DAD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94D-CAA9-4D14-B431-A73C6B1F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6F9-81BC-4CBC-AA9E-ED96215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C98-F555-4A60-881F-CEBC0539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65E-AAFB-4695-9CD8-4ECB57D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3B9-1555-4B18-8149-6160A282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AF5-2E92-4013-8F63-4050E487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40C-A0E2-4EA5-A204-D5A67D2A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98E-A082-406B-965C-E0E02BB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93C-1712-4F5A-A445-9A94757D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8591-B71C-4299-A43F-67DE2EF67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тички мет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болесника који ће бити обухваћени студиј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сно дефинисани критеријуми на којима се заснива дијагноза (у сваког оболелог од малигног тумора дијагноза хистопатолошки потврђе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упу оболелих чине сви болесници или њихов случајно одабран узорак из дефинисане попу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удију ограничити само на новообол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контролне групе која ће бити обухваћена студиј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0755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ци из контролне групе треба да буду подударни са групом оболелих у односу на основне варијабле (пол, узра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пулација из које се регрутују припадници контролне гру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цијенти и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ст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дравствене установе одакле је изабрана група оболел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ва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дравствене установе одакле је изабрана група оболел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одела испитаника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ложене утицају чиниоца за кога се претпоставља да доводи до настанка неког поремећај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се посматра у  групи изложених и неизложени утицају чиниоца за кога се претпоставља да доводи до настанка неког поремећаја здрављ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којој је од две групе инциденција ве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зи се од претпостављеног узрока и посматра његова евентуална улога у оболева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азе извођења кохортне студије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 кох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езбеђење информација о изложености и подела на изложене и неизложене аген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ћење учесталости оболевања у испитиваним групама и утврђивање пропорције оболелих у групи изложених и неизложених дејству аген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годност идентификације чланова: У кохорти од више хиљада британских лекара испитиван утицај пушења на појаву рака пл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 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362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ебна изложенос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собе које су професионално или стицајем околности биле изложене дејству агенса (штетан ефекат инсектицида међу радницима ангажованим на запрашивањ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Изучавање оболевања и умирања међу становницима Хирошиме (Чернобиља) после експлозије атомске бомбе (хаварије нуклеа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тички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ира хипотезу о фактору одговорном за настанак одређеног поремећај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овезује се на дескриптивну методу, лабораторијска или клиничка запаж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ује повезаност између претпостављеног узрока и очекиване послед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 обзира на начин избора кохорте , детаљним прегледом елиминисати особе већ оболеле од болести која је предмет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и припадници кохорте прате се током периода који се изражава годи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ОХОРТНЕ</a:t>
            </a: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опа инциденције (морталитета) изложених лица  упоређује се са одговарајућом стопом међу особама које нису изложене аген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да се примењује аналитички мето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ује болести непознате етиоло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њује се када су узрочници познати а циљ је да се утврди начин на који је агенс доспео до осетљивих ос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тички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зи од појединаца који чине одговарајуће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љаним епидемиолошким упитником обезбеђујемо информације о искуству испитаника у односу на одређени фа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итивање повезаности између претпостављеног узрока и очекиване последице доводи до поделе испитаника у четири груп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и обол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и здр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ложени обол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ложени здр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ушење и инфаркт миокар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ар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Е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б+ц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ључно питање у аналитичкој мет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је изложеност неком чиниоцу повезана са појавом боле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а основна присту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зи од последице тј.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дентификују се фактори који су удружени с појавом болести, односно који су јој претход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упак обухв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 групе оболелих и одговарајуће контролне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купљање података о изложености аген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тврђивање пропорција изложених особа у испитиваним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1T08:13:41Z</dcterms:created>
  <dc:creator> </dc:creator>
  <dc:description/>
  <dc:language>en-US</dc:language>
  <cp:lastModifiedBy> </cp:lastModifiedBy>
  <dcterms:modified xsi:type="dcterms:W3CDTF">2017-01-09T11:43:06Z</dcterms:modified>
  <cp:revision>7</cp:revision>
  <dc:subject/>
  <dc:title>Slide 1</dc:title>
</cp:coreProperties>
</file>